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0C8-6DCD-43C2-A2C1-493E4B22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FC2-9EC9-4371-B786-C9E89564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715-40DC-4912-9530-C1BA1938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820-691F-403F-90EC-83507E3D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C08-78AC-4A25-BCEB-A1E44073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212-AA23-4FC7-8508-B40DECEF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831-A7D3-43B7-8398-A508F2C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2FD-8DA2-4080-B1A2-647C070F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E20-5DC3-492D-A23F-DA8780DB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F72-6D41-4868-817C-3C16D80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42-B73E-40C4-8F9F-B835A11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FD8-D40C-4303-909D-59D8B62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6A7-59CA-4E39-BAF7-2AB49651B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280" y="195480"/>
            <a:ext cx="65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= 1000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= 3000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790720" cy="203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37440" y="34282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92720" y="765000"/>
            <a:ext cx="2790720" cy="20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0040" y="2990160"/>
            <a:ext cx="48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z 1. számú acélcsőminta felületi morfológiájának SEM analíz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2790720" cy="20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292720" y="3500280"/>
            <a:ext cx="2790720" cy="2038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3280" y="5798520"/>
            <a:ext cx="48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2. számú acélcsőminta felületi morfológiájának SEM analíz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54720" y="343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280" y="195480"/>
            <a:ext cx="65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= 1000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= 3000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79072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64000" y="981000"/>
            <a:ext cx="2791080" cy="20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5360" y="3265920"/>
            <a:ext cx="414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 3. számú acélcsőminta felületi morfológiájának SEM analíz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84360" y="3571920"/>
            <a:ext cx="2790720" cy="203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364000" y="3645000"/>
            <a:ext cx="2791080" cy="203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5360" y="5858280"/>
            <a:ext cx="414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 4. számú acélcsőminta felületi morfológiájának SEM analíz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82156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765000"/>
          <a:ext cx="7775280" cy="490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765000"/>
                    <a:ext cx="7775280" cy="49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33920" y="5995440"/>
            <a:ext cx="71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z átlagos DF-ek változása a dekontaminációs oldatok kémiai koncentrációjának függvényé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82156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620640"/>
          <a:ext cx="8280360" cy="435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28036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-9720" y="5444640"/>
            <a:ext cx="9073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radionuklidok dekontaminációs faktorainak változása a dekontamináló oldatok kémiai koncentrációjának függvényé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14480" y="12682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-586" t="0" r="0" b="0"/>
          <a:stretch/>
        </p:blipFill>
        <p:spPr>
          <a:xfrm>
            <a:off x="1187280" y="3284640"/>
            <a:ext cx="6837480" cy="330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12680" y="3163680"/>
            <a:ext cx="200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0" t="8331" r="53125" b="8331"/>
          <a:stretch/>
        </p:blipFill>
        <p:spPr>
          <a:xfrm>
            <a:off x="4716360" y="189000"/>
            <a:ext cx="4145040" cy="275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1267560"/>
            <a:ext cx="353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dekontaminált gőzfejlesztő hőátadó csövek belső felületének feltételezett szerkezete és a 8. jelű hőátadó acélcsőminta keresztmetszeti csiszolatának SEM-felvétele N = 300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4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-604" t="0" r="0" b="0"/>
          <a:stretch/>
        </p:blipFill>
        <p:spPr>
          <a:xfrm>
            <a:off x="1116000" y="3573360"/>
            <a:ext cx="6983280" cy="3284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139560"/>
            <a:ext cx="135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0" t="0" r="53125" b="0"/>
          <a:stretch/>
        </p:blipFill>
        <p:spPr>
          <a:xfrm>
            <a:off x="4572000" y="260280"/>
            <a:ext cx="4289400" cy="300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1556640"/>
            <a:ext cx="345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nem dekontaminált gőzfejlesztő hőátadó csövek belső felületének feltételezett szerkezete és a 15. jelű hőátadó acélcsőminta keresztmetszeti csiszolatának SEM-felvétele N = 300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557360"/>
            <a:ext cx="4572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Lép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zes mosá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- 90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perc a megadott hőmérsékle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Lép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úgos kezel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g/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átrium-hidroxid és 5 g/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álium-permanganá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óra a megadott hőmérsékle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Lép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zes öblít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perc a megadott hőmérsékle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Lépé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as kezelé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g/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itromsav és 10 g/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xálsav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óra a megadott hőmérséklet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413000"/>
            <a:ext cx="457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5. Lépés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izes öblítés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0C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perc a megadott hőmérsékle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. Lépés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idrogénperoxidos öblítés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 g/dm3 hidrogén-peroxid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oC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 óra a megadott hőmérsékle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7. Lépés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Öblítés 1 g/dm3 koncentrációjú ammónia oldattal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oC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perc a megadott hőmérsékle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8. Lépés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Öblítés vízzel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őmérséklet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oC (a GF hőátadó csőszakasz lehűtése)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dőtartam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perc a megadott hőmérsékleten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0"/>
            <a:ext cx="8280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paksi atomerőmű gőzfejlesztőinek mentesítésére alkalmazott AP-CITROX kémiai dekontaminációs technológia lépései és azok paramétere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Áramlási sebesség: 0,5 m/s.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(A dekontamináló oldatok koncentrációját az X-el jelölt lépésekben változtattuk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5:28:34Z</dcterms:created>
  <dc:creator>Gregor</dc:creator>
  <dc:description/>
  <dc:language>en-US</dc:language>
  <cp:lastModifiedBy>Gregor</cp:lastModifiedBy>
  <dcterms:modified xsi:type="dcterms:W3CDTF">2004-10-11T16:31:16Z</dcterms:modified>
  <cp:revision>8</cp:revision>
  <dc:subject/>
  <dc:title>1. dia</dc:title>
</cp:coreProperties>
</file>